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531-6111-4D20-8F06-4998AC68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2BC-00D6-4A01-A280-1EB4759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311-6F6B-40A3-BAB6-A36D558E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06D-9D8E-4F8A-BB9D-874D2CE7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1DE-A79D-4DB4-AC3B-F3F118AF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905-01F5-43DF-A593-55F4A94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780-6231-43FB-B84C-B867F8B6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69C-DAF4-4BBD-AF01-5BB6BEF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8AF-BCC8-4E0C-AD90-C80C364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6C9-68C4-4532-974A-9F59872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BDC-5B37-494B-B95F-0F94D3E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5EE-9A24-4B3F-9554-FDA577F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C60D-9779-4B06-BC0E-CB944067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Vivald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Lake Baikal the deepest freshwater lake is on this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Many people travel this plateau to see this lake which can be difficult with it’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Harlow Solid Italic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Making travel between them more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Harlow Solid Italic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est Siberi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 </cp:lastModifiedBy>
  <dcterms:modified xsi:type="dcterms:W3CDTF">2010-12-20T19:24:16Z</dcterms:modified>
  <cp:revision>5</cp:revision>
  <dc:subject/>
  <dc:title>It’s Always Tougher n Russia</dc:title>
</cp:coreProperties>
</file>